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367-817D-4830-B46E-C8287AFF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7C4-837D-4136-9F0E-689ABF5B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610-4FD3-4391-9622-48337E9C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7CB-BD83-4B35-9BF2-82D991B8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F07B-353A-49F8-8489-D9A7E57B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498-3335-420A-BC87-8B5F2DD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1545-EE98-4B37-93A0-6E0C784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0C74-74C7-4BB1-9386-E22A15CB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E10-E741-4816-9F95-821DB8B3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53C3-A846-47B0-95C2-CED077B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1063-CC52-4B4F-A145-DFFB286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1D0-D155-4F74-9CBE-39F03950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1366-7B57-4829-AB1D-AD55674B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6D9E-532F-47C6-9265-499069F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C975-391A-4C59-8CDB-FEAD38D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0A6-7DFC-46F9-AFAD-46031BC3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7C34-1587-4F24-BA9B-3F8C94DB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73F-4522-4E54-8920-E65CB8B9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047-1EE6-4030-8920-A21FF28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501-8597-40AE-81AD-F6276EF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F7F-B07A-4070-A652-7B51087B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EFD-1569-434B-9F70-0611777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FEA-F95F-4FC1-B96D-7E13D5C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E4D-7B61-4FC1-947E-7BBD65B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EACD-5433-4224-8B5E-6EE798EDB8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A6C-ED25-419C-A03F-7BD3BA99B50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The Book of Job (2)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5, Lesson 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nited Kingdom, Part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ges 138-14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Elihu Spoke To Job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2 - 37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ccused Job of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ging God with perverted just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ng irreverently toward G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ing God to explain his a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main contentions: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sees everything and He knows everyth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mighty in the works we s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just in his dealings with m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far greater than m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wise beyond any m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God Responded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8 - 4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872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rebuked Job -  you should not question Me or My 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God did not deal with who was right, Job or his friend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dealt with Job’s inability to contest anything with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rendered Job ignorant and weak by referring to the works of creation, works of the heavens, works among the animal kingdom, et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God Responded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8 - 4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872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challenged Job for ans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was humbled by the ev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rebuked Job’s three friends for falsely accusing Jo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ack To 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42:10-17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restored Job’s wealth – two times as much as befo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gave Job seven sons and three daughters ag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’s brothers, sisters and friends sought him as they had befo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passed the test!  Could w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8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Lessons From Job -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at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Is Sovereign!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Is Supreme!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Has Absolute Authority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Is In Control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Lessons From Job -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had a covenant with God, and he remained faithful to his covenant, even though he did not understand what was happening to hi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never learned why he was suffering.  He learned he was to pass the test even though he did not understand why the test had co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’s Situation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many friends turned from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as made a laughingstoc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body would listen to him anymo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young men mock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saw no end to his suffering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longed for the days gone b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w, he has nothing but pain and suffe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’s Logic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made 9 recorded speeches 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ished he had never been bo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I had died at birth, then I would be at peace and rest t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re to life if only you suffer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has God singled me out, watching me every momen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am I treated as the wicked on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onders: How can a man be right with God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’s Logic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thought God had sent the calami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only he could talk to God and explain his case to Him, God would vindicate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t, he has no mediator between him and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cannot plead his case to God because he does not know where to find Him; He is invisible to the ey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ree Friends Reasoned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8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nnocent prosp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wicked perish before God; they reap what they s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an is completely right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 is absolutely ju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’s children, without doubt, deserved the punishment they go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Job’s sins caused his proble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ree Friends Reasoned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8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God would just speak to you, you would know what you have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wicked man lives in pain all his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rebuked Job for not admitting his sins; it was obvious to them that Job’s past righteous life was a sh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s God punished you because of your righteousness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suggested that he repent, confess his sins, start living righ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 Answered His Critics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904760"/>
            <a:ext cx="8634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alamity comes upon the right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sperity comes to the wick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dmitted sin but not a great s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thought that God was inflicting the pain, but did not understand wh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fe is short and full of trouble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silenced his friends by specific examples of wicked people prospe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maintained his self-righteous attitu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 Answered His Critics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rebuked his friends for their accus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oor and oppress cry out to God, but God does not hear th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urderer lives to kill again, the adulterer continues his sin in secret – and nothing is done about 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blames God for not punishing the wicked immediate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Elihu Spoke To Job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2 - 37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young man, son of Barachel, the Buzi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et because the friends could not answer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et with Job as being self-righteous, and justifying himself and not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ople cried out when oppressed, but no one asked where God is when they are happ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ied to convince Job to listen to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id he is speaking on behalf of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22:58:59Z</dcterms:modified>
  <cp:revision>38</cp:revision>
  <dc:subject/>
  <dc:title>Job</dc:title>
</cp:coreProperties>
</file>